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1B8-1C65-457D-BE6A-0216EA9A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F5C-723B-4C3F-B47E-EA34FA1D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6DC-4880-48E2-8412-46681CF0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0448-8271-4CB3-A330-49AF45C9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6C9-0A41-4DD5-8854-E4354518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B7D6-4237-4741-A92D-9648A14D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6DD-7B85-47EC-8A9E-1477184F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49C-62F3-42EF-A9BE-2BDED627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D338-F834-4B6A-B9F9-AD7919CC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B8C-995C-4F5B-8ECE-15B2C4B9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0EC-A081-4035-ABFC-2A366A98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56C-04A7-4B91-B162-F3C606EC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303A-C26E-4C07-ACF0-001A2307E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Worlds%20first%20IT%20guy%20%5Bwww.keepvid.com%5D.mp4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lycom.com/solutions/industry/education/primary_second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olycom.com/global/documents/solutions/industry_solutions/education/program_resources/polycom_academic_training_brochure.pdf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Polycom in Your Class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oe Kulbac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anuary 19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g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up Ea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, Test &amp; Test Some Mo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 Sup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ra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 Practice/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nts and Settings\Administrator\Local Settings\Temporary Internet Files\Content.IE5\YELAX2WF\MC900441902[1].wmf"/>
          <p:cNvPicPr/>
          <p:nvPr/>
        </p:nvPicPr>
        <p:blipFill>
          <a:blip r:embed="rId1"/>
          <a:stretch/>
        </p:blipFill>
        <p:spPr>
          <a:xfrm>
            <a:off x="2666880" y="1447920"/>
            <a:ext cx="388476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Technology In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Poly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to Get Sta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in the Class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to find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to Connec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Use the Poly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IT Gu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First IT Gu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Polyc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olycom  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We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y, Play &amp; Play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FF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husiastic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novative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ng and Old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ngs We’ve D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S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orthern Irelan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hiladelph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lippery Roc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eshannoc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lue Collar &amp; Proud of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ad Across the Plan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SSA Pre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chool to Schoo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nam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besity Epidem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to Get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cademic Training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ycom Content Access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Providers Data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jects Around the Pl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space (projects.twice.c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ycom Events for Educ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roun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blems/S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ving from building to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 comf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ical Difficul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 “Buy I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Polyc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ontent Placeholder 3" descr="trouble with computer.jpg"/>
          <p:cNvPicPr/>
          <p:nvPr/>
        </p:nvPicPr>
        <p:blipFill>
          <a:blip r:embed="rId1"/>
          <a:stretch/>
        </p:blipFill>
        <p:spPr>
          <a:xfrm>
            <a:off x="2514600" y="1295280"/>
            <a:ext cx="38862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23:13:04Z</dcterms:created>
  <dc:creator> </dc:creator>
  <dc:description/>
  <dc:language>en-US</dc:language>
  <cp:lastModifiedBy> </cp:lastModifiedBy>
  <dcterms:modified xsi:type="dcterms:W3CDTF">2011-01-19T01:32:00Z</dcterms:modified>
  <cp:revision>3</cp:revision>
  <dc:subject/>
  <dc:title>Using the Polycom in Your Classroom</dc:title>
</cp:coreProperties>
</file>